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5CF0-9068-42AF-A039-0CC8AC01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E24F4-9CFB-4D79-AAB4-8BAC8644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25F6-6F1A-4D16-9645-8F3C35F4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49FF-C99E-49BD-9114-D9C5E13B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B70A-D0B6-4471-85F0-9D09A144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EBCF-47B1-47D0-863D-B86D9F15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28EC-EDA9-4C57-A0BB-E90F5ECE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6425-DFE7-4B40-942E-D7CB1C0F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BEB0-0EA9-4FAA-AC5A-30C1A843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3C01-C4E5-44B6-8DE7-30FF6CA0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DFB9-BFF3-4040-8A1D-289C4B1C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685FE-30C7-4BAE-840B-E2E62458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2596-7532-467C-AEF6-839860BA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8FDD-FD93-4718-8E0E-B674019B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2BFF-F3CE-4B45-997F-21FFD85D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5058-C429-4472-988B-E7081717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1C21-7DD7-4097-AD1E-A38C8A2A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D7C5-D455-43E2-B77D-BDCD54EF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C9AF3-73AE-4B75-A656-7C80D5C0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D816F-B213-4EC4-9276-67E51D5D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CC3BE-7E9B-4893-8AD5-01B0C3E8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08A1-B4BD-402E-8599-D6048F7A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40F25-357C-4E19-A437-69814A22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DEFB-BDD4-483A-B2CE-9A42761F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37F8-1C57-42B8-B23D-10656C87317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BA40-1F40-401F-899B-3DF9FF10BEA9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104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ae8ba"/>
                </a:solidFill>
                <a:latin typeface="Garamond"/>
              </a:rPr>
              <a:t>APRENDIZAGEM INTERATIVO-VIRTUAL: EXPERIMENO EM CONTEÚDOS DE LÍNGUA INGLESA 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f. STE Gerson Fachia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íodo: Notu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cola Estadual Senador Filinto Mull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vinhema - 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RESULTADOS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Grato!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-mail: gersonfachiano@yahoo.com.b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SN: gersonfachiano@hotmail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itter: www.twitter.com/gersonfachia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Público-Alvo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e projeto está senco executado com a professora de Língua Inglesa Roseli Mazzaro e aos discentes do terceiro ano do ensino médio notur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OBJETIVOS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Este trabalho tem por objetivo capacitar docente e discentes para utilizarem ferramentas digitais no processo de ensino-aprendizagem de Língua Inglesa (LI) potencializando o ensino do mesmo através da utilização de plataformas digitais da WEB 2.0 (PRAL e XTranormal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JUSTIFICATIVA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tindo da realidade de hoje, em que muitos professores não têm uma idéia exata de como se processa o aprendizado com a utilização das novas tecnologias disponíveis ao docente, este trabalho se destina a todo leitor interessado em conhecer uma das muitas faces dessa tecnologia aplicada à</a:t>
            </a: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área educacional, ou seja, as várias possibilidades de como ensinar e aprender uma segunda língua empregando as TI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FERRAMENTAS DIGITAIS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Foram escolhidas duas ferramentas digitais: a primeira é o 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PRAL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. O </a:t>
            </a:r>
            <a:r>
              <a:rPr b="0" i="1" lang="pt-BR" sz="2800" spc="-1" strike="noStrike">
                <a:solidFill>
                  <a:srgbClr val="ffffff"/>
                </a:solidFill>
                <a:latin typeface="Garamond"/>
              </a:rPr>
              <a:t>PRAL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é um portal de relacionamento educacional que possibilita estudantes e professores interagirem por meio de diversas ferramentas, possibilitando assim, uma maior interatividade com o grupo. A segunda ferramenta digital que será trabalhada é o 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XTranormal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que é uma nova ferramenta para a criação de animações 3D como dramas, comédias e o que mais você quiser que os atores faça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METODOLOGIA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tapa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rofessora de línguas passou por uma capacitação que abordou todas as formas de utilização do PRAL criando-se nesta ocasião a página da docente. Em seguida, houve a capacitação quanto aos recursos da ferramenta digital Xtranorm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roseli pral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4006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04920" y="5335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ágina da Profa. Rose Mazzaro. Realizada na capacitaçã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CRIANDO O FILME xtranormal"/>
          <p:cNvPicPr/>
          <p:nvPr/>
        </p:nvPicPr>
        <p:blipFill>
          <a:blip r:embed="rId1"/>
          <a:stretch/>
        </p:blipFill>
        <p:spPr>
          <a:xfrm>
            <a:off x="152280" y="1563840"/>
            <a:ext cx="8839440" cy="3998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228600" y="5475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azendo o filme com a professora Rose na capacitaçã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76520" y="58672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http://www.youtube.com/watch?v=nQxRObYdD0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2</a:t>
            </a:r>
            <a:r>
              <a:rPr b="1" lang="en-US" sz="4400" spc="-1" strike="noStrike" baseline="30000">
                <a:solidFill>
                  <a:srgbClr val="bae8ba"/>
                </a:solidFill>
                <a:latin typeface="Garamond"/>
              </a:rPr>
              <a:t>a</a:t>
            </a: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 ETAPA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resentação e cadastro dos discentes à plataforma PRAL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ação com os recursos do ambiente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esso aos conteúdos e as atividades postados pela professora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aboração de um roteiro aplicando o conteúdo aprendido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iação do filme utilizando o site Xtranormal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8:05:37Z</dcterms:created>
  <dc:creator>user</dc:creator>
  <dc:description/>
  <dc:language>en-US</dc:language>
  <cp:lastModifiedBy>MicroCarla</cp:lastModifiedBy>
  <dcterms:modified xsi:type="dcterms:W3CDTF">2009-08-11T13:10:32Z</dcterms:modified>
  <cp:revision>52</cp:revision>
  <dc:subject/>
  <dc:title>PROFESSOR FORMANDO PROFESSOR</dc:title>
</cp:coreProperties>
</file>